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E55-D6CF-42DF-97A6-EF7C94E8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B06-BBAC-4129-A3CD-EB8047F4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3BE-CE48-4286-9E3D-0B5210A0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0E2-4C19-4609-939D-23610147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663-7B67-4BAE-BC69-C5CB0905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543-9F92-4D42-9F37-AE1808AF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411-3D2C-4935-A08B-47ED8049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87B-E355-4A7A-8EA6-0B840B1D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531-F466-4264-B37F-D7D215AB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BAE-DF25-43FA-A75C-60B98F7E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406-9572-4AF4-8A0C-F3DB6624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224-E722-4B58-ACEF-67D0B905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A1F4-3BAC-4692-9DBD-BC890CB56D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ng 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To Take Notes in Your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5730840"/>
            <a:ext cx="883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ation by Sharon Fulmer, Tiffany Holmes, &amp; Laura Ha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cademy of Irving, Texas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od Read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reading is skim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need to learn, reading requires close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reading is hard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reading makes good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MCBD04983_0000[1]"/>
          <p:cNvPicPr/>
          <p:nvPr/>
        </p:nvPicPr>
        <p:blipFill>
          <a:blip r:embed="rId1"/>
          <a:stretch/>
        </p:blipFill>
        <p:spPr>
          <a:xfrm>
            <a:off x="7315200" y="2819520"/>
            <a:ext cx="157644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MCj02864480000[1]"/>
          <p:cNvPicPr/>
          <p:nvPr/>
        </p:nvPicPr>
        <p:blipFill>
          <a:blip r:embed="rId2"/>
          <a:stretch/>
        </p:blipFill>
        <p:spPr>
          <a:xfrm>
            <a:off x="2514600" y="4495680"/>
            <a:ext cx="1471680" cy="1808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720" y="6461280"/>
            <a:ext cx="379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Bedford Read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ittle, Brown 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ation by Laura Ha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s: A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one “right” way to annotate (take notes) as you 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ral principles for good annotating to keep in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rginal notes in the 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king Notes is not just summarizing. Ask questions and write and 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ose reading takes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king time as you read will save you time and anxiety later as you discuss &amp; write about the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viewing: Before You Annot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226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a quiet place with no distractions (this means no music, cell phone, or T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includes author’s subject or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the auth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already know helps you guess something about the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biographical sketch is provided, read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367760" y="5072040"/>
            <a:ext cx="1776240" cy="1785960"/>
            <a:chOff x="7367760" y="5072040"/>
            <a:chExt cx="1776240" cy="1785960"/>
          </a:xfrm>
        </p:grpSpPr>
        <p:sp>
          <p:nvSpPr>
            <p:cNvPr id="54" name="Music"/>
            <p:cNvSpPr/>
            <p:nvPr/>
          </p:nvSpPr>
          <p:spPr>
            <a:xfrm>
              <a:off x="7848720" y="5452920"/>
              <a:ext cx="743040" cy="1067040"/>
            </a:xfrm>
            <a:custGeom>
              <a:avLst/>
              <a:gdLst>
                <a:gd name="textAreaLeft" fmla="*/ 274680 w 743040"/>
                <a:gd name="textAreaRight" fmla="*/ 721080 w 743040"/>
                <a:gd name="textAreaTop" fmla="*/ 45720 h 1067040"/>
                <a:gd name="textAreaBottom" fmla="*/ 26496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" descr="MCj03036750000[1]"/>
            <p:cNvPicPr/>
            <p:nvPr/>
          </p:nvPicPr>
          <p:blipFill>
            <a:blip r:embed="rId1"/>
            <a:stretch/>
          </p:blipFill>
          <p:spPr>
            <a:xfrm>
              <a:off x="7367760" y="5072040"/>
              <a:ext cx="1776240" cy="17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Rectangle 7"/>
          <p:cNvSpPr/>
          <p:nvPr/>
        </p:nvSpPr>
        <p:spPr>
          <a:xfrm>
            <a:off x="76680" y="6384960"/>
            <a:ext cx="379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Bedford Read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ittle, Brown 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ation by Laura Ha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viewing: Before You Annot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hat was it publish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you be more likely to believe “Living Mermaids:  An Amazing Discovery” if it were published 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Americ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National Enquir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s for whom it was wr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was it publish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t’s about mermaids, will you find it more reliable if written in 1988 or 1788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Cj01160220000[1]"/>
          <p:cNvPicPr/>
          <p:nvPr/>
        </p:nvPicPr>
        <p:blipFill>
          <a:blip r:embed="rId1"/>
          <a:stretch/>
        </p:blipFill>
        <p:spPr>
          <a:xfrm>
            <a:off x="7315200" y="4800600"/>
            <a:ext cx="98748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76680" y="6384960"/>
            <a:ext cx="379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Bedford Read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ittle, Brown 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ation by Laura Ha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2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with a pen or pencil in hand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s you focus and stay ale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your own code / symbols &amp; be CONSISTENT with your syst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breviate using things such as brackets, stars, exclamation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a list of characters &amp; their key tra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good place: inside cover of the 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brief notes to your lists as you re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k for patt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deas do you see repeated?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onnections can you draw between different concep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j0223756"/>
          <p:cNvPicPr/>
          <p:nvPr/>
        </p:nvPicPr>
        <p:blipFill>
          <a:blip r:embed="rId1"/>
          <a:stretch/>
        </p:blipFill>
        <p:spPr>
          <a:xfrm>
            <a:off x="6629400" y="526896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your own code / symbols,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id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ing det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use and eff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(Now brainstorm key concepts with your tabl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line/highlight – CAUTION: Use this sparing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line/highlight only a few wor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ver underline an entire pass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end of each chapter, bullet-point the key events as a summary or write a short summ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j0223755"/>
          <p:cNvPicPr/>
          <p:nvPr/>
        </p:nvPicPr>
        <p:blipFill>
          <a:blip r:embed="rId1"/>
          <a:stretch/>
        </p:blipFill>
        <p:spPr>
          <a:xfrm>
            <a:off x="6477120" y="1523880"/>
            <a:ext cx="2438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2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a CONVERSATION with the text. Talk back to i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e your time as you begin a new text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self many questions as you beg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there any fallacies in the text?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es this relate to your everyday experie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formula will help me solve this probl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y to make a quick note on the top of each page indicating the most important point t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questions (essential to active reading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question mark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alert to what puzzles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readers do not zip along without stopping to monitor their comprehension.  They stop to think and to note what they don’t understan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down questions you would like to discu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annotations must include comments as evidence of think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j0304299"/>
          <p:cNvPicPr/>
          <p:nvPr/>
        </p:nvPicPr>
        <p:blipFill>
          <a:blip r:embed="rId1"/>
          <a:stretch/>
        </p:blipFill>
        <p:spPr>
          <a:xfrm>
            <a:off x="7086600" y="5877000"/>
            <a:ext cx="19051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ta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42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course, you should always pay attention to VOCABULAR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trong vocabulary comes from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not from memorizing lis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includes many words that will be new to yo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k these word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 to determine meaning from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you are really puzzled by a word, look it up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WordArt 18"/>
          <p:cNvSpPr txBox="1"/>
          <p:nvPr/>
        </p:nvSpPr>
        <p:spPr>
          <a:xfrm rot="20053800">
            <a:off x="691920" y="3935520"/>
            <a:ext cx="1890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op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WordArt 19"/>
          <p:cNvSpPr txBox="1"/>
          <p:nvPr/>
        </p:nvSpPr>
        <p:spPr>
          <a:xfrm rot="20053800">
            <a:off x="3179880" y="4192200"/>
            <a:ext cx="247968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ypothesi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WordArt 20"/>
          <p:cNvSpPr txBox="1"/>
          <p:nvPr/>
        </p:nvSpPr>
        <p:spPr>
          <a:xfrm rot="20053800">
            <a:off x="5502240" y="4311360"/>
            <a:ext cx="325296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oeconomic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mification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01:50Z</dcterms:created>
  <dc:creator>Laura Hayes</dc:creator>
  <dc:description/>
  <dc:language>en-US</dc:language>
  <cp:lastModifiedBy>McGrath Edward J</cp:lastModifiedBy>
  <cp:lastPrinted>2009-02-19T17:16:46Z</cp:lastPrinted>
  <dcterms:modified xsi:type="dcterms:W3CDTF">2014-02-10T17:42:47Z</dcterms:modified>
  <cp:revision>18</cp:revision>
  <dc:subject/>
  <dc:title>Annotating Texts</dc:title>
</cp:coreProperties>
</file>